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63A-AB86-428E-9A19-97E857A3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1C7-97E5-4596-9BCE-415B342C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269-A606-42DD-9431-4AAC35F3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7A6-1DAF-4CC7-9B50-942C3005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B1F2-1779-4D36-A6CB-53A076A0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D1AA-0974-41AA-9B84-D8622B40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7EBF-133A-402C-ABE8-DA9C7FAF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580C-0150-46B6-BF70-0E1956A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484-3581-4C47-8B04-D948D19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C2D3-D358-43F3-8041-17B243A1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E2D7-7CCE-4881-ADAB-C731128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13F-89D6-40EA-86DB-779F149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6BB-19D3-41AF-8EBF-8D5849A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1A86-5F0D-4D66-A59E-8584827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DAB5-7759-464E-A61E-34A86489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EEE-1A8C-4A63-8B7B-57023474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338D-FC96-4522-B81B-2DFCE600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364-7396-406F-9789-C5221707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9C8-8F7B-4F3A-A941-5FF6291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A56-9511-4323-9CEE-FD3979A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6B5-6E8C-47B3-81C0-CB3A2A39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589-BED2-4BDB-90BA-93EDE3A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4DE-7557-4A35-84A8-3D6A7ED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2BF-217B-4638-BCB2-636DC62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9B3A-DC33-4A12-8775-092F24CA690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F3BC-0F2B-4825-ABBD-E3FF311AF53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and Rebir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 of the Re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rence, Ital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6" name="Picture 4" descr="WestEur8"/>
          <p:cNvPicPr/>
          <p:nvPr/>
        </p:nvPicPr>
        <p:blipFill>
          <a:blip r:embed="rId1"/>
          <a:stretch/>
        </p:blipFill>
        <p:spPr>
          <a:xfrm>
            <a:off x="1447920" y="1066680"/>
            <a:ext cx="7269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issance Ital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 rot="16200000">
            <a:off x="-807480" y="44769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8" descr="WCB3e_m12"/>
          <p:cNvPicPr/>
          <p:nvPr/>
        </p:nvPicPr>
        <p:blipFill>
          <a:blip r:embed="rId1"/>
          <a:stretch/>
        </p:blipFill>
        <p:spPr>
          <a:xfrm>
            <a:off x="1219320" y="838080"/>
            <a:ext cx="58276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chiavelli and the New Statecraf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colo Machiavelli (1469 – 15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sition, maintenance and expansion of political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Intellectual Renaissance in Ital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6952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ian Renaissance Hum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sm based on Greco-Roman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rarch (1304 – 1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 Humanism – Flo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onardo Bruni (1370 – 14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i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sm and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silio Ficino (1433 – 14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s Plato’s di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sis of Christianity and Plato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issance Herme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us Hermetic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ovanni Pico della Mirandola (1463 – 14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tion on the Dignity of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ducation &amp; The Impact of Printing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in the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al Studies: history, moral philosophy, eloquence (rhetoric), letters (grammar and logic), poetry, mathematics, astronomy an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 of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of Education was to create a complete cit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sco Guicci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act of Pri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annes Gute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able type (1445 – 145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tenberg’s Bible (1455 or 14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read of Pr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rtistic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066680"/>
            <a:ext cx="776916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accio (1401 – 14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pective and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ment and Anatomica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ato di Donatello (1386 – 14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ippo Brunelleschi (1377 – 1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 of San Loren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ardo da Vinci (1452 – 15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S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hael (1483 – 15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of Ath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elangelo (1475 – 15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stine Ch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Northern Artistic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van Eyck (c. 1380 – 144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ovanni Arnolfini and His B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recht Dürer (1471 – 15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oration of the Ma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in the Re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llaume Duf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uropean State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naissance State in We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uis XI the Spider King (1461 – 14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 of the R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ry VII Tudor (1485 – 15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cation of Castile and Arag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ment of professional royal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gious unifor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quest of Gr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ulsion of the J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on Court in the Alhamb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ada, Spain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3" name="Picture 4" descr="033LionCourt"/>
          <p:cNvPicPr/>
          <p:nvPr/>
        </p:nvPicPr>
        <p:blipFill>
          <a:blip r:embed="rId1"/>
          <a:stretch/>
        </p:blipFill>
        <p:spPr>
          <a:xfrm>
            <a:off x="12952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urope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 rot="16213800">
            <a:off x="-1090080" y="456012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WCB3e_m12"/>
          <p:cNvPicPr/>
          <p:nvPr/>
        </p:nvPicPr>
        <p:blipFill>
          <a:blip r:embed="rId1"/>
          <a:stretch/>
        </p:blipFill>
        <p:spPr>
          <a:xfrm>
            <a:off x="914400" y="1500120"/>
            <a:ext cx="73152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aning and Characteristics of the Italian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issance = Re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ob Burkhard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zation of the Renaissance in Italy (18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birth of Greco-Roman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s on individual 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entral, Eastern, and Ottoman Empire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Europe: The Holy Roman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sburg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lian I (1493 – 15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ggle for Strong Monarchy in Ea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toman Turks and the end of the Byzantin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juk Turks spread into Byzantine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ople falls to the Turks (14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nd Bazaar in Contemporary Istanbul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0" name="Picture 1028" descr="028Bazaar"/>
          <p:cNvPicPr/>
          <p:nvPr/>
        </p:nvPicPr>
        <p:blipFill>
          <a:blip r:embed="rId1"/>
          <a:stretch/>
        </p:blipFill>
        <p:spPr>
          <a:xfrm>
            <a:off x="12193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hurch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of Heresy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Hus (1374 – 14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ed the elimination of worldliness and corruption of the cl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ed at the stake (14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rch Counc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p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naissance Pap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us II (1503 – 15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rior P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o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ons of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o X (1513 – 15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cial changes did the Renaissance br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Machiavelli deal with the issue of political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printing press change European socie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chnical achievements did Renaissance artists make? Why were they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relation between art and politics in Renaissance Ita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popes handle the growing problems that were emerging in the Church in the Fifteenth and early Sixteenth Centu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issance Secr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 Leonardo’s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onardo da Vinci on the B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tican Exhibit – Rome Re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issance – Focus on Flo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ffizi Gallery – Flo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tican Museums – The Sistine Cha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tenberg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r of the R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toman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aking of Renaissance Socie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ian cities lose economic supre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seatic 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iles, Printing, Mining and Metall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ce and the Med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sh City of Gdans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rtant Member of the Hanseatic League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4" name="Picture 4" descr="EastEur9"/>
          <p:cNvPicPr/>
          <p:nvPr/>
        </p:nvPicPr>
        <p:blipFill>
          <a:blip r:embed="rId1"/>
          <a:stretch/>
        </p:blipFill>
        <p:spPr>
          <a:xfrm>
            <a:off x="1447920" y="1371600"/>
            <a:ext cx="7143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ocial Changes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nstruction of the Aristoc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stocracy: 2 – 3 percent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assare Castiglione (1478 – 1529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of the Courtier (152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to the pr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Renaissance Castle of Chenonceaux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Picture 4" descr="WestEur8"/>
          <p:cNvPicPr/>
          <p:nvPr/>
        </p:nvPicPr>
        <p:blipFill>
          <a:blip r:embed="rId1"/>
          <a:stretch/>
        </p:blipFill>
        <p:spPr>
          <a:xfrm>
            <a:off x="12952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asants and Townspeop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sants: 85 – 90 percent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e of manorial system and serf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urghers, shopkeepers, artisans, guildmasters, and guild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or and Un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amily and Marriage in Renaissance Ital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ther-husband head of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fe managed house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N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talian States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218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Major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d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p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dom of Na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and Spain fight over the penins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diplomat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1-09-28T18:34:22Z</dcterms:modified>
  <cp:revision>191</cp:revision>
  <dc:subject/>
  <dc:title>Chapter 13</dc:title>
</cp:coreProperties>
</file>